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825-B361-48EC-AFE9-C47F08B1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0BE-CF67-40C1-8D29-042F0497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B6D-C97F-47D6-98DA-9FF2DD2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B0F-C5BA-4297-A241-21F7380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35D-77E7-469E-ABC0-904DD8D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D28-A59A-4490-BD19-52D2B81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6F7-3B67-490F-B31E-165B0CD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577-FAE5-43AC-B39A-176DEC84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D50-B456-4FFC-B390-644A1E1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67A-32B5-442C-BD1B-2EF597F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2A5-3FBA-4B85-B5C0-B1A8FE9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F38-5577-4793-A34B-87D5276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DB3-6CE5-406D-96C7-22F4B9EBAA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ирование мероприятий, посвященных озо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Инструмент к использованию всеобщего сокровища материалов бесплат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предлагается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нс участвовать в международных конкур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ные материалы для уче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в планировании и разработке программ по озону и изменению климата для ваших уче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й документ в формате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отредактирован в помощь вашему планированию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ваших идей с помощью ключевых вопро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чать и использовать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занятие позволяет вам разрабатывать иде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е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м и определяем, каковы ваши мотиваторы или «зацеп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комиксов про Оззи для выяснения учебных ц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е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овый этап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е один из модулей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йте комик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йте настольную иг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йте заявку на Оззи-Оск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дайте ролевую иг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е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м действия на будущ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одуль должен заканчиваться действиями молодых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ы должны содержать в себе 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иксы заканчиваются действ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зу-Оскар требует доказательства действ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на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зывы и 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0:21:24Z</dcterms:created>
  <dc:creator>WTA</dc:creator>
  <dc:description/>
  <dc:language>en-US</dc:language>
  <cp:lastModifiedBy>Лианна</cp:lastModifiedBy>
  <dcterms:modified xsi:type="dcterms:W3CDTF">2011-05-11T20:39:37Z</dcterms:modified>
  <cp:revision>12</cp:revision>
  <dc:subject/>
  <dc:title>Planning Your Ozone Activities</dc:title>
</cp:coreProperties>
</file>